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E6%8F%90%E7%A4%BA1.wav" ContentType="audio/x-wav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9.gif" ContentType="image/gif"/>
  <Override PartName="/ppt/media/image8.jpeg" ContentType="image/jpeg"/>
  <Override PartName="/ppt/media/image10.jpeg" ContentType="image/jpeg"/>
  <Override PartName="/ppt/media/image11.gif" ContentType="image/gif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844-32F6-44C4-9CA4-3A7F985E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6D6-BB8C-4714-B8AB-0DD55E3B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CCE-0935-471C-B6A9-47542677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DE5-AFD5-45E5-88E8-91747E67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2C9-1A63-4D6E-8060-3BE1852C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E0C-1B41-4A81-9DA3-2BCBE78F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81A-28D8-4B13-A70B-F377F0E4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C75-7908-4EEA-958D-304D2A59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211-1B25-4531-A22B-2BF2AB6E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E5D-4981-4E42-8A26-2237508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376-1A4E-4842-AEE0-49BC060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04A-5894-42F4-A9C4-380C2EBC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94A-FC0E-478E-B1B5-25E841057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audio" Target="../media/&#25552;&#31034;1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22899;&#23090;&#36896;&#20154;.swf" TargetMode="External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09680" y="312408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99880" y="22320"/>
            <a:ext cx="99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女娲造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1592280" y="30751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袁 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5" descr="未标题-1"/>
          <p:cNvPicPr/>
          <p:nvPr/>
        </p:nvPicPr>
        <p:blipFill>
          <a:blip r:embed="rId1"/>
          <a:stretch/>
        </p:blipFill>
        <p:spPr>
          <a:xfrm>
            <a:off x="6721560" y="0"/>
            <a:ext cx="2422440" cy="2205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31760" y="196524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女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1514520" y="1736640"/>
            <a:ext cx="901800" cy="51768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1563840" y="2616120"/>
            <a:ext cx="960120" cy="20016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095880" y="4114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544840" y="1442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神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03440" y="2584440"/>
            <a:ext cx="14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人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3765600" y="1800360"/>
            <a:ext cx="9097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3681360" y="2997360"/>
            <a:ext cx="9367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722840" y="14540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神通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7467480" y="5181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675320" y="257184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勤劳、智慧、 有创造力、    伟大的母亲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87480" y="241200"/>
            <a:ext cx="3816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ea typeface="华文彩云"/>
                <a:hlinkClick r:id="rId2" action="ppaction://hlinksldjump"/>
              </a:rPr>
              <a:t>女娲的形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"/>
          <p:cNvSpPr/>
          <p:nvPr/>
        </p:nvSpPr>
        <p:spPr>
          <a:xfrm>
            <a:off x="297000" y="4572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女娲具有神性，她神通广大。女娲具有人性，她勤劳，智慧，是一个伟大的母爱形象，是一个人性化的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79280" y="476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79280" y="155736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隶变_GBK"/>
                <a:ea typeface="方正隶变_GBK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方正隶变_GBK"/>
                <a:ea typeface="方正隶变_GBK"/>
              </a:rPr>
              <a:t>本文通过对女娲造人过程的叙述，体现了人类可贵的创造力和探求精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3790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中宋"/>
              </a:rPr>
              <a:t>争论题</a:t>
            </a:r>
            <a:r>
              <a:rPr b="0" lang="en-US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259668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DotumChe"/>
                <a:ea typeface="DotumChe"/>
              </a:rPr>
              <a:t>这个神话故事的内容违背了科学性，今天学习这个故事是否有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rose7"/>
          <p:cNvPicPr/>
          <p:nvPr/>
        </p:nvPicPr>
        <p:blipFill>
          <a:blip r:embed="rId1"/>
          <a:stretch/>
        </p:blipFill>
        <p:spPr>
          <a:xfrm>
            <a:off x="5867280" y="3789360"/>
            <a:ext cx="2889360" cy="277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51"/>
          <p:cNvPicPr/>
          <p:nvPr/>
        </p:nvPicPr>
        <p:blipFill>
          <a:blip r:embed="rId2"/>
          <a:stretch/>
        </p:blipFill>
        <p:spPr>
          <a:xfrm>
            <a:off x="1066680" y="1828800"/>
            <a:ext cx="662940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五角叶"/>
          <p:cNvPicPr/>
          <p:nvPr/>
        </p:nvPicPr>
        <p:blipFill>
          <a:blip r:embed="rId3"/>
          <a:stretch/>
        </p:blipFill>
        <p:spPr>
          <a:xfrm>
            <a:off x="8153280" y="5943600"/>
            <a:ext cx="7574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F%90%E7%A4%B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未标题-1"/>
          <p:cNvPicPr/>
          <p:nvPr/>
        </p:nvPicPr>
        <p:blipFill>
          <a:blip r:embed="rId1"/>
          <a:stretch/>
        </p:blipFill>
        <p:spPr>
          <a:xfrm>
            <a:off x="-19080" y="3695760"/>
            <a:ext cx="3924360" cy="3116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250920" y="189000"/>
            <a:ext cx="48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课堂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235080" y="134136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女娲造人，体现了人类可贵的创造力和探求精神，今天，我们面对的广袤世界，依然有许多未知领域，等待我们去探求，去追索，去感受那种创造成功的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未标题-1"/>
          <p:cNvPicPr/>
          <p:nvPr/>
        </p:nvPicPr>
        <p:blipFill>
          <a:blip r:embed="rId2"/>
          <a:stretch/>
        </p:blipFill>
        <p:spPr>
          <a:xfrm>
            <a:off x="5219640" y="3695760"/>
            <a:ext cx="392436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68360" y="1052640"/>
            <a:ext cx="82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挥你的联想和想象，续写下边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69720" y="297648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牵牛花开放了，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119320" y="40784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月光照在地上，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259800" y="5300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我不在父母的身边的时候，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52-0515"/>
          <p:cNvPicPr/>
          <p:nvPr/>
        </p:nvPicPr>
        <p:blipFill>
          <a:blip r:embed="rId1"/>
          <a:stretch/>
        </p:blipFill>
        <p:spPr>
          <a:xfrm>
            <a:off x="7020000" y="5105520"/>
            <a:ext cx="2124000" cy="168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005"/>
          <p:cNvPicPr/>
          <p:nvPr/>
        </p:nvPicPr>
        <p:blipFill>
          <a:blip r:embed="rId2"/>
          <a:stretch/>
        </p:blipFill>
        <p:spPr>
          <a:xfrm>
            <a:off x="6058080" y="2631960"/>
            <a:ext cx="2474640" cy="1065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99964900258"/>
          <p:cNvPicPr/>
          <p:nvPr/>
        </p:nvPicPr>
        <p:blipFill>
          <a:blip r:embed="rId3"/>
          <a:stretch/>
        </p:blipFill>
        <p:spPr>
          <a:xfrm>
            <a:off x="6227640" y="3789360"/>
            <a:ext cx="2305080" cy="122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108000" y="1984320"/>
            <a:ext cx="96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例：天上的明星现了，好象点着无数的街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3221280" y="154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当堂训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33200" y="1700280"/>
            <a:ext cx="901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了解神话故事的特点，积累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复述故事情节，学习联想和想象的运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感受女娲朴实、感人的伟大母爱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340000" y="333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50920" y="119700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神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古代劳动人民对其所接触的自然现象、社会现象，不能正确地解释而通过想象创造出来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神话的特点</a:t>
            </a:r>
            <a:r>
              <a:rPr b="1" lang="en-US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:</a:t>
            </a:r>
            <a:r>
              <a:rPr b="1" lang="en-US" sz="3600" spc="-1" strike="noStrike">
                <a:solidFill>
                  <a:srgbClr val="ff33cc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它是以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事实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基础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充满奇妙的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想象和幻想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非常有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人物形象，大多具有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超人的力量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0920" y="18900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华文中宋"/>
                <a:ea typeface="华文中宋"/>
              </a:rPr>
              <a:t>自学指导一：了解神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611280" y="836640"/>
            <a:ext cx="806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袁珂，生于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16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四川新都人，神话学家。论著有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国古代神话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山海经校注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。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国古代神话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</a:t>
            </a:r>
            <a:r>
              <a:rPr b="1" lang="zh-CN" sz="3600" spc="-1" strike="noStrike">
                <a:solidFill>
                  <a:srgbClr val="d60093"/>
                </a:solidFill>
                <a:latin typeface="华文中宋"/>
                <a:ea typeface="华文中宋"/>
              </a:rPr>
              <a:t>中国第一部汉民族古代神话专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4520" y="982800"/>
            <a:ext cx="90694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娲（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）蓬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勃（       ）澄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澈（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莽莽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榛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榛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           ）    兴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采烈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开眼笑（           ）    疲倦不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堪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枯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藤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      ）泥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潭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    ）开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     ）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和（        ）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团（        ）绵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延（        ）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踪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迹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     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然（        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溅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落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662120" y="8888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1040" y="1778040"/>
            <a:ext cx="12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 rot="909600">
            <a:off x="2960640" y="5157360"/>
            <a:ext cx="459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182000" y="9237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éng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611360" y="4249800"/>
            <a:ext cx="11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hu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620120" y="42242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680" y="684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学指导二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: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字词疏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7764480" y="336240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819440" y="511488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697280" y="50277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ǒ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610160" y="42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ó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7462800" y="17478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2682720" y="2602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497720" y="257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k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1704960" y="337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4743360" y="34146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613640" y="501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422600" y="95580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31840" y="1628640"/>
            <a:ext cx="8569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神通广大：形容本领十分高强或解决问题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途径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兴高采烈：兴致高，情绪热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疲倦不堪：疲倦得无法坚持下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31840" y="47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词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667880" y="549360"/>
            <a:ext cx="32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华文中宋"/>
                <a:ea typeface="华文中宋"/>
              </a:rPr>
              <a:t>自学指导三：初读感知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52320" y="1557360"/>
            <a:ext cx="837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读课文，了解内容，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示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要说清女娲为什么要造人，怎样造人，怎样造更多的人，怎样让人类自己繁衍生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0"/>
            <a:ext cx="1676520" cy="1389240"/>
          </a:xfrm>
          <a:prstGeom prst="rect">
            <a:avLst/>
          </a:prstGeom>
          <a:ln w="0">
            <a:noFill/>
          </a:ln>
        </p:spPr>
      </p:pic>
      <p:pic>
        <p:nvPicPr>
          <p:cNvPr id="78" name="女娲造人朗读-龙凤居士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图片111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60200" y="428760"/>
            <a:ext cx="88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跳读文中描写女娲的句子，文中塑造了一个怎样的女娲呢？是神还是人？分别体现在哪些方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24000" y="3068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要求：分小组讨论，并由小组代表作好讨论记录，然后由小组代表发言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40840" y="491760"/>
            <a:ext cx="34671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天变化七十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揉黄泥造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挥洒泥浆造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77880" y="3297240"/>
            <a:ext cx="2593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寂寞孤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眉开眼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豪欣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忙碌疲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375000" y="3459240"/>
            <a:ext cx="252360" cy="2268360"/>
          </a:xfrm>
          <a:custGeom>
            <a:avLst/>
            <a:gdLst>
              <a:gd name="textAreaLeft" fmla="*/ 0 w 252360"/>
              <a:gd name="textAreaRight" fmla="*/ 91080 w 252360"/>
              <a:gd name="textAreaTop" fmla="*/ 58320 h 2268360"/>
              <a:gd name="textAreaBottom" fmla="*/ 2210040 h 22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2"/>
                  <a:pt x="10800" y="1784"/>
                </a:cubicBezTo>
                <a:lnTo>
                  <a:pt x="10800" y="9016"/>
                </a:lnTo>
                <a:cubicBezTo>
                  <a:pt x="10800" y="9908"/>
                  <a:pt x="16200" y="10800"/>
                  <a:pt x="21600" y="10800"/>
                </a:cubicBezTo>
                <a:cubicBezTo>
                  <a:pt x="16200" y="10800"/>
                  <a:pt x="10800" y="11692"/>
                  <a:pt x="10800" y="12584"/>
                </a:cubicBezTo>
                <a:lnTo>
                  <a:pt x="10800" y="19816"/>
                </a:lnTo>
                <a:cubicBezTo>
                  <a:pt x="10800" y="2070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3627360" y="655560"/>
            <a:ext cx="223920" cy="1922400"/>
          </a:xfrm>
          <a:custGeom>
            <a:avLst/>
            <a:gdLst>
              <a:gd name="textAreaLeft" fmla="*/ 0 w 223920"/>
              <a:gd name="textAreaRight" fmla="*/ 80640 w 223920"/>
              <a:gd name="textAreaTop" fmla="*/ 34920 h 1922400"/>
              <a:gd name="textAreaBottom" fmla="*/ 188748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0"/>
                  <a:pt x="10800" y="1259"/>
                </a:cubicBezTo>
                <a:lnTo>
                  <a:pt x="10800" y="9541"/>
                </a:lnTo>
                <a:cubicBezTo>
                  <a:pt x="10800" y="10171"/>
                  <a:pt x="16200" y="10800"/>
                  <a:pt x="21600" y="10800"/>
                </a:cubicBezTo>
                <a:cubicBezTo>
                  <a:pt x="16200" y="10800"/>
                  <a:pt x="10800" y="11430"/>
                  <a:pt x="10800" y="12059"/>
                </a:cubicBezTo>
                <a:lnTo>
                  <a:pt x="10800" y="20341"/>
                </a:lnTo>
                <a:cubicBezTo>
                  <a:pt x="10800" y="209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60720" y="801720"/>
            <a:ext cx="25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神”的非凡能力和 神奇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27360" y="3571920"/>
            <a:ext cx="24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人”的心理、神态、情感、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550200" y="816120"/>
            <a:ext cx="2457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想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大胆奇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367320" y="3693960"/>
            <a:ext cx="24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想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真实合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12:56:06Z</dcterms:created>
  <dc:creator>何芳</dc:creator>
  <dc:description/>
  <dc:language>en-US</dc:language>
  <cp:lastModifiedBy>长城中学91</cp:lastModifiedBy>
  <dcterms:modified xsi:type="dcterms:W3CDTF">2017-11-28T10:47:21Z</dcterms:modified>
  <cp:revision>207</cp:revision>
  <dc:subject/>
  <dc:title>幻灯片 1</dc:title>
</cp:coreProperties>
</file>